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F8F-74B4-4A9E-9FB7-A1135D5D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B62-D054-48B1-9772-67D0AF04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526-CA10-48B0-9DE6-7504FAF3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C73-3F63-42CF-8199-7C8E4DAB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6A93-D13B-46DD-B3EA-3890869A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F0D-4F6E-4424-A885-8504F129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B7A9-689B-4C97-BAE0-39952EC7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3C5-708A-494A-AD39-CEF7AA8C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179-B3E2-4A3B-8CD8-970A5180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5688-EDEC-4884-A2A3-F5B84FED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484-A9CF-454D-A698-8B4FAA71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BA3-21F2-418D-A178-9BFFF9D2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E0F5-4207-4133-B8B5-84CB6B0D1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Kill a Mockingbi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Harp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y is told by Scout, a 10-year-old g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per Lee is actually a woman; Scout represents the author as a little girl although the story is not  strictly autobiograph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the Nov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ting is all important –be aware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” and “when” as you be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of View – the novel is shaped by the voice of a young girl who sees the story from a position of naïve accep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ness vs. Ignorance (Evil)” and Innocence vs. Knowledge of ev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zing a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the following image and think about the following thing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see in the photo-Just the f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your personal feelings about the photo. “I think of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you conclude about the pho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d to write a story about the photo, what would your opening line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TTING OF THE NO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038480" y="2209320"/>
            <a:ext cx="56390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thern United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3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judice and legal se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gno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30’s - Great Depression began when the stock market crashed in October, 1929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es failed, factories 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ople were out of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en people with money suffered because nothing was being produced for s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 people lost their homes, were forced to “live off the la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81024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4800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cial prejudice was alive &amp; well. Although slavery had ended in 1864,        old ideas were slow to chang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cial separation (segregation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017720"/>
            <a:ext cx="7772400" cy="5233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819520" y="914400"/>
            <a:ext cx="3687480" cy="5257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914400" y="1143000"/>
            <a:ext cx="7620120" cy="5397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62120" y="1441440"/>
            <a:ext cx="7385040" cy="479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838080" y="1295280"/>
            <a:ext cx="7218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" dur="1" fill="hold"/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hite tras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or, uneducated white people who lived on “relief 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owest social class, even below the poor bl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judiced against black peopl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elt the need to “put down” blacks in order to elevate themse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gal Issues of the 1920’s and ‘30s which impact the stor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men given the vote in 19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ries were  MALE and WH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r trial” did not include acceptance of a black man’s word against a white ma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ttsboro Boy 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3997" t="4450" r="3997" b="4265"/>
          <a:stretch/>
        </p:blipFill>
        <p:spPr>
          <a:xfrm>
            <a:off x="4800600" y="2286000"/>
            <a:ext cx="3505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judice in the no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ic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ch/P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ig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rac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cus Finch -  an attorney whose wife has  died, leaving him to raise their two childr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Jem –  10-year-old b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Scout – (Jean Louise), 6-year-old g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 Robinson – a black man accused of raping  white girl; he is defended at trial by Atti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7T21:39:57Z</dcterms:created>
  <dc:creator>Inst</dc:creator>
  <dc:description/>
  <dc:language>en-US</dc:language>
  <cp:lastModifiedBy>VMS</cp:lastModifiedBy>
  <dcterms:modified xsi:type="dcterms:W3CDTF">2009-09-03T17:34:27Z</dcterms:modified>
  <cp:revision>16</cp:revision>
  <dc:subject/>
  <dc:title>To Kill a Mockingbird</dc:title>
</cp:coreProperties>
</file>